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22.wmf" ContentType="image/x-wmf"/>
  <Override PartName="/ppt/media/image20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755BF-6994-44E4-B3FA-525BC2AC0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52E6D-D1D6-485E-88D4-9D17F51C48F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0F45-DCD6-4FCC-85D7-0398A9690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DD61-D89D-4290-AF77-C64E50124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C3CF-66B4-4D9F-8EA3-1A4644715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2241-CE91-438B-905C-60DD181BA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F5CEA-3ACA-4C86-B034-B0A831E1F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001BF-DBD6-4BC2-B79D-C68D32AE4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9E23C-C03D-4AB4-B7F2-541B3CC92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7B20C-D927-405A-AF16-F7691D04C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D5BBA-5142-4DC5-A0F2-C5812B55C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4E7F8-71CF-4748-B636-205647468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3E9BD-1A6A-4BD3-9C2A-19D1F3ED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3ED6-1E52-4CA7-810C-FF9E77D3B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45052-DCE2-4757-8846-CAC09F5CE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409B3-9687-42B3-ABED-9C957412A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C0BD0-93B1-4068-A684-624B048CF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E97C3-4870-44CD-8711-D953CBED1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63C3F-D384-4500-96CF-917DF853E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9BBC-39AB-4CE8-A8C5-B7F28A8B2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E5A1-14DA-404C-8487-209EF5A28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5ACF-FE54-4253-80F9-D21A38F2A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6B95-6EF8-4D39-8F6A-8E4CFF68C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75B2-DA03-4055-AB76-0FC57E4E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B05C-675E-4747-B13F-08827A3B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3DB5-BF8D-42A4-80C5-D64CDAC8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5AFA4-90AD-4D4E-92D5-149C9B2B6CC3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8B385-EE7A-4808-B2D2-1588A4E95EEF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1"/>
          <a:stretch/>
        </p:blipFill>
        <p:spPr>
          <a:xfrm>
            <a:off x="530280" y="1292400"/>
            <a:ext cx="8113680" cy="20476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761760" y="358092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y Arely and Bland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1" name="MS900388425[1].wav" descr=""/>
          <p:cNvPicPr/>
          <p:nvPr/>
        </p:nvPicPr>
        <p:blipFill>
          <a:blip r:embed="rId2"/>
          <a:stretch/>
        </p:blipFill>
        <p:spPr>
          <a:xfrm>
            <a:off x="8229600" y="571500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30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0" y="1920960"/>
            <a:ext cx="449568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31000" indent="-3985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They have been studied  very little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Fungi is found on the west coast on south Shetland Island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The plant is very unique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This plant is found in temperate areas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Fungi grows up to 1 foot tall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It looks like gray frozen flowers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6" name="Content Placeholder 4" descr="fungi%20pic1.jpg"/>
          <p:cNvPicPr/>
          <p:nvPr/>
        </p:nvPicPr>
        <p:blipFill>
          <a:blip r:embed="rId2"/>
          <a:stretch/>
        </p:blipFill>
        <p:spPr>
          <a:xfrm>
            <a:off x="4648320" y="2300400"/>
            <a:ext cx="403848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"/>
          <p:cNvPicPr/>
          <p:nvPr/>
        </p:nvPicPr>
        <p:blipFill>
          <a:blip r:embed="rId2"/>
          <a:stretch/>
        </p:blipFill>
        <p:spPr>
          <a:xfrm>
            <a:off x="1523880" y="1600200"/>
            <a:ext cx="5943600" cy="4708440"/>
          </a:xfrm>
          <a:prstGeom prst="rect">
            <a:avLst/>
          </a:prstGeom>
          <a:ln w="0">
            <a:noFill/>
          </a:ln>
        </p:spPr>
      </p:pic>
      <p:pic>
        <p:nvPicPr>
          <p:cNvPr id="129" name="MS900069459[1].wav" descr=""/>
          <p:cNvPicPr/>
          <p:nvPr/>
        </p:nvPicPr>
        <p:blipFill>
          <a:blip r:embed="rId3"/>
          <a:stretch/>
        </p:blipFill>
        <p:spPr>
          <a:xfrm>
            <a:off x="8077320" y="601992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3584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533520" y="2362320"/>
            <a:ext cx="8229600" cy="39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lue Whal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delie Penguin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eddell Sea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os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Lichen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lga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od web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Title 1" descr=""/>
          <p:cNvPicPr/>
          <p:nvPr/>
        </p:nvPicPr>
        <p:blipFill>
          <a:blip r:embed="rId1"/>
          <a:stretch/>
        </p:blipFill>
        <p:spPr>
          <a:xfrm>
            <a:off x="450720" y="334800"/>
            <a:ext cx="8242560" cy="9702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-360" y="1599840"/>
            <a:ext cx="4724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25600" indent="-394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Blue whales travel there to get fish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y have balleen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y don’t chew there food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t is a mammal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y are blue, gray, and mink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Blue whales eat krill and fish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Blue whales make deep sounds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y are carnivores .    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6" name="Picture 4" descr="blue-whale-pictures_3.jpg"/>
          <p:cNvPicPr/>
          <p:nvPr/>
        </p:nvPicPr>
        <p:blipFill>
          <a:blip r:embed="rId2"/>
          <a:stretch/>
        </p:blipFill>
        <p:spPr>
          <a:xfrm>
            <a:off x="4572000" y="1371600"/>
            <a:ext cx="4191120" cy="5029200"/>
          </a:xfrm>
          <a:prstGeom prst="rect">
            <a:avLst/>
          </a:prstGeom>
          <a:ln w="0">
            <a:noFill/>
          </a:ln>
        </p:spPr>
      </p:pic>
      <p:pic>
        <p:nvPicPr>
          <p:cNvPr id="97" name="MS910219980[1].wav" descr=""/>
          <p:cNvPicPr/>
          <p:nvPr/>
        </p:nvPicPr>
        <p:blipFill>
          <a:blip r:embed="rId3"/>
          <a:stretch/>
        </p:blipFill>
        <p:spPr>
          <a:xfrm>
            <a:off x="2362320" y="6094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5029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83174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Title 1" descr=""/>
          <p:cNvPicPr/>
          <p:nvPr/>
        </p:nvPicPr>
        <p:blipFill>
          <a:blip r:embed="rId1"/>
          <a:stretch/>
        </p:blipFill>
        <p:spPr>
          <a:xfrm>
            <a:off x="530280" y="298440"/>
            <a:ext cx="8242200" cy="11588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-360" y="1599840"/>
            <a:ext cx="4724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They are peculiar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Penguins weigh 5 kilograms to 11 pounds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Their average height is 70 centimeters to 27 inches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Each nest is 2 inches away from other nest.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They eat fish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They are carnivores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2" name="Picture 4" descr="071228-penguins-extinct_big.jpg"/>
          <p:cNvPicPr/>
          <p:nvPr/>
        </p:nvPicPr>
        <p:blipFill>
          <a:blip r:embed="rId2"/>
          <a:stretch/>
        </p:blipFill>
        <p:spPr>
          <a:xfrm>
            <a:off x="4419720" y="1447920"/>
            <a:ext cx="43909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-360" y="1828800"/>
            <a:ext cx="4724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14440" indent="-38628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They are enchanting animals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They live in the edge of the ice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The weddle pups are weaned at around 7 weeks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Adults weigh 880 pounds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Baby seals grow to 3 and 5 feet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They are mammals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They eat fish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They are carnivores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Picture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6" name="Picture 4" descr="weddell-seal.jpg"/>
          <p:cNvPicPr/>
          <p:nvPr/>
        </p:nvPicPr>
        <p:blipFill>
          <a:blip r:embed="rId2"/>
          <a:stretch/>
        </p:blipFill>
        <p:spPr>
          <a:xfrm>
            <a:off x="4648320" y="3048120"/>
            <a:ext cx="4124160" cy="2743200"/>
          </a:xfrm>
          <a:prstGeom prst="rect">
            <a:avLst/>
          </a:prstGeom>
          <a:ln w="0">
            <a:noFill/>
          </a:ln>
        </p:spPr>
      </p:pic>
      <p:pic>
        <p:nvPicPr>
          <p:cNvPr id="107" name="MS900388467[1].wav" descr=""/>
          <p:cNvPicPr/>
          <p:nvPr/>
        </p:nvPicPr>
        <p:blipFill>
          <a:blip r:embed="rId3"/>
          <a:stretch/>
        </p:blipFill>
        <p:spPr>
          <a:xfrm>
            <a:off x="7467480" y="6858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5422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41800" indent="-40680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They are interesting plants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Mosses live where there is shelter and plenty of water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They are found in gravily soil areas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The photosynthesis can start in a few hours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It looks like a white path of sand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                      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495680" y="1599840"/>
            <a:ext cx="41911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Picture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1" name="Picture 4" descr="images.jpg"/>
          <p:cNvPicPr/>
          <p:nvPr/>
        </p:nvPicPr>
        <p:blipFill>
          <a:blip r:embed="rId2"/>
          <a:stretch/>
        </p:blipFill>
        <p:spPr>
          <a:xfrm>
            <a:off x="4518000" y="2971800"/>
            <a:ext cx="38941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Title 1" descr=""/>
          <p:cNvPicPr/>
          <p:nvPr/>
        </p:nvPicPr>
        <p:blipFill>
          <a:blip r:embed="rId1"/>
          <a:stretch/>
        </p:blipFill>
        <p:spPr>
          <a:xfrm>
            <a:off x="378000" y="450720"/>
            <a:ext cx="8242200" cy="11588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41800" indent="-40680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y are rare plants you can only find in Antarctica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y are best adapted to survive in harsh polar climates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y live for about 4,500 years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Lichens only grow about 120 days per year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Lichens not only frugal and robust plants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re are more than 350 species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ictur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5" name="Picture 4" descr="Lichen.jpg"/>
          <p:cNvPicPr/>
          <p:nvPr/>
        </p:nvPicPr>
        <p:blipFill>
          <a:blip r:embed="rId2"/>
          <a:stretch/>
        </p:blipFill>
        <p:spPr>
          <a:xfrm>
            <a:off x="4510080" y="3041640"/>
            <a:ext cx="38718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Title 1" descr=""/>
          <p:cNvPicPr/>
          <p:nvPr/>
        </p:nvPicPr>
        <p:blipFill>
          <a:blip r:embed="rId1"/>
          <a:stretch/>
        </p:blipFill>
        <p:spPr>
          <a:xfrm>
            <a:off x="450720" y="29844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41800" indent="-40680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There  are  more than 300 species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They mostly found in bird colonies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They  are only living things in barren landscapes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It is sometimes found under old stones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They look like dirt but it is not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They are simple plants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Picture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9" name="Picture 4" descr="algae-blooms-antarctica-global-warming.jpg"/>
          <p:cNvPicPr/>
          <p:nvPr/>
        </p:nvPicPr>
        <p:blipFill>
          <a:blip r:embed="rId2"/>
          <a:stretch/>
        </p:blipFill>
        <p:spPr>
          <a:xfrm>
            <a:off x="4495680" y="3352680"/>
            <a:ext cx="419112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Title 1" descr=""/>
          <p:cNvPicPr/>
          <p:nvPr/>
        </p:nvPicPr>
        <p:blipFill>
          <a:blip r:embed="rId1"/>
          <a:stretch/>
        </p:blipFill>
        <p:spPr>
          <a:xfrm>
            <a:off x="298440" y="835200"/>
            <a:ext cx="8242200" cy="11523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-360" y="1934640"/>
            <a:ext cx="487692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49"/>
              </a:spcBef>
              <a:buClr>
                <a:srgbClr val="6bb1c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Orcas  are  carnivores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270000" indent="-270000">
              <a:lnSpc>
                <a:spcPct val="80000"/>
              </a:lnSpc>
              <a:spcBef>
                <a:spcPts val="649"/>
              </a:spcBef>
              <a:buClr>
                <a:srgbClr val="6bb1c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Orca whales are massive mammals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270000" indent="-270000">
              <a:lnSpc>
                <a:spcPct val="80000"/>
              </a:lnSpc>
              <a:spcBef>
                <a:spcPts val="649"/>
              </a:spcBef>
              <a:buClr>
                <a:srgbClr val="6bb1c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Orcas have blowholes that help them breathe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270000" indent="-270000">
              <a:lnSpc>
                <a:spcPct val="80000"/>
              </a:lnSpc>
              <a:spcBef>
                <a:spcPts val="649"/>
              </a:spcBef>
              <a:buClr>
                <a:srgbClr val="6bb1c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Orcas are black and white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270000" indent="-270000">
              <a:lnSpc>
                <a:spcPct val="80000"/>
              </a:lnSpc>
              <a:spcBef>
                <a:spcPts val="649"/>
              </a:spcBef>
              <a:buClr>
                <a:srgbClr val="6bb1c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Orca whales  are not fish because they don’t have gills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270000" indent="-270000">
              <a:lnSpc>
                <a:spcPct val="80000"/>
              </a:lnSpc>
              <a:spcBef>
                <a:spcPts val="649"/>
              </a:spcBef>
              <a:buClr>
                <a:srgbClr val="6bb1c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They  eat fish, baby seal and more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270000" indent="-270000">
              <a:lnSpc>
                <a:spcPct val="80000"/>
              </a:lnSpc>
              <a:spcBef>
                <a:spcPts val="649"/>
              </a:spcBef>
              <a:buClr>
                <a:srgbClr val="6bb1c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They are warm blooded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270000" indent="-270000">
              <a:lnSpc>
                <a:spcPct val="80000"/>
              </a:lnSpc>
              <a:spcBef>
                <a:spcPts val="649"/>
              </a:spcBef>
              <a:buClr>
                <a:srgbClr val="6bb1c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270000" indent="-270000">
              <a:lnSpc>
                <a:spcPct val="80000"/>
              </a:lnSpc>
              <a:spcBef>
                <a:spcPts val="649"/>
              </a:spcBef>
              <a:buClr>
                <a:srgbClr val="6bb1c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2" name="Picture 5" descr="http://suziesden.com/wp-content/uploads/2010/09/orca-whale.jpg"/>
          <p:cNvPicPr/>
          <p:nvPr/>
        </p:nvPicPr>
        <p:blipFill>
          <a:blip r:embed="rId2"/>
          <a:stretch/>
        </p:blipFill>
        <p:spPr>
          <a:xfrm>
            <a:off x="4648320" y="2209680"/>
            <a:ext cx="4317840" cy="2962440"/>
          </a:xfrm>
          <a:prstGeom prst="rect">
            <a:avLst/>
          </a:prstGeom>
          <a:ln w="0">
            <a:noFill/>
          </a:ln>
        </p:spPr>
      </p:pic>
      <p:pic>
        <p:nvPicPr>
          <p:cNvPr id="123" name="MS910219980[1].wav" descr=""/>
          <p:cNvPicPr/>
          <p:nvPr/>
        </p:nvPicPr>
        <p:blipFill>
          <a:blip r:embed="rId3"/>
          <a:stretch/>
        </p:blipFill>
        <p:spPr>
          <a:xfrm>
            <a:off x="8077320" y="571500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83174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8T15:41:38Z</dcterms:created>
  <dc:creator>user</dc:creator>
  <dc:description/>
  <dc:language>en-US</dc:language>
  <cp:lastModifiedBy>user</cp:lastModifiedBy>
  <dcterms:modified xsi:type="dcterms:W3CDTF">2011-03-24T21:26:41Z</dcterms:modified>
  <cp:revision>26</cp:revision>
  <dc:subject/>
  <dc:title>Title</dc:title>
</cp:coreProperties>
</file>